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40777"/>
        <c:axId val="30650561"/>
      </c:barChart>
      <c:catAx>
        <c:axId val="52840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50561"/>
        <c:crosses val="autoZero"/>
        <c:auto val="1"/>
        <c:lblAlgn val="ctr"/>
        <c:lblOffset val="100"/>
        <c:noMultiLvlLbl val="0"/>
      </c:catAx>
      <c:valAx>
        <c:axId val="30650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40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77A-87FC-4C56-AF89-C794F5B6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16EF-94B3-43B2-9D57-99BD99B9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745F-1796-43FF-ADF7-7856627A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823-1538-4763-B362-32CBB16E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53E-405B-440F-8EA2-0B8D90E1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458-0CA1-46E6-A01A-883839C4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FA4-ABAC-42B4-B8DC-41DC3D16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4F6-15D1-41F8-BAA1-7E733147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9C7-57C5-43E1-8A40-3112E179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DEC-CA03-4143-95B6-D75250AB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518-BD96-4BA1-8A4B-8F7D501F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867-ADCF-41E4-85C8-3087196F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49E49-FBFB-42B8-A1D2-1CF0B60E87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