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55008"/>
        <c:axId val="11092060"/>
      </c:barChart>
      <c:catAx>
        <c:axId val="32455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2060"/>
        <c:crosses val="autoZero"/>
        <c:auto val="1"/>
        <c:lblAlgn val="ctr"/>
        <c:lblOffset val="100"/>
        <c:noMultiLvlLbl val="0"/>
      </c:catAx>
      <c:valAx>
        <c:axId val="11092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55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8C6-DFDD-4EA3-BB86-08E9EDA8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757-CE02-4FF0-8289-769CB3CD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7B8-33A8-4B9C-B43E-30FAE8EF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F86-0FE6-4A26-BEE5-5C52E175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399-D9A0-4130-9E0B-4A40918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390-38CB-47ED-9674-6340291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24C-0597-4BCC-8253-F1190287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74E-4DC7-4DC2-8554-99941D2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BC1-9997-4AEA-935F-862EA4E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91F-1EB2-4AE4-A7DE-D48A30EA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BBF-23D7-437B-8813-88EA413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F0A-8845-4D23-99E6-29C98BC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F030F-1198-4D24-BDFC-BCDA00D9DC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