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52796"/>
        <c:axId val="98653111"/>
      </c:barChart>
      <c:catAx>
        <c:axId val="18152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53111"/>
        <c:crosses val="autoZero"/>
        <c:auto val="1"/>
        <c:lblAlgn val="ctr"/>
        <c:lblOffset val="100"/>
        <c:noMultiLvlLbl val="0"/>
      </c:catAx>
      <c:valAx>
        <c:axId val="986531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52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F2AE-B2CF-49C5-982E-710BE07A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7A8F-81F6-4F57-AED6-60CC6AE1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A3AB-9B0F-4343-8438-4531C4B0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9F5-7C61-4625-892E-7B30FACC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2158-E190-4049-87D2-973A831F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D18E-2FC1-44A6-9CF8-4D5619D0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EF5-7A7C-41E7-9F2F-703E6702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BE0-BECD-4077-BE05-20A3479A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C4F-FEFC-4E82-BA01-C26BFBC1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201-DC1A-429D-90EA-683396D7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FEC-713E-467C-8004-8A91A9FC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633-21D1-451F-8C74-796D60DC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6C558-D87B-4C1B-9B83-91DEC4CD1C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