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55556"/>
        <c:axId val="47064332"/>
      </c:barChart>
      <c:catAx>
        <c:axId val="22955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64332"/>
        <c:crosses val="autoZero"/>
        <c:auto val="1"/>
        <c:lblAlgn val="ctr"/>
        <c:lblOffset val="100"/>
        <c:noMultiLvlLbl val="0"/>
      </c:catAx>
      <c:valAx>
        <c:axId val="47064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5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BC7-C7C2-417B-BC92-4F9DB151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F3B-9B9B-49E7-BD6A-BFDC1B21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02E-440B-4A6F-A509-8C8FD3BF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2CF-A6D5-4C57-8915-4AF73BD8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494-7582-462B-A175-4699A2A5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483-3E6B-409F-84F3-96442A66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A8C-1DBE-4C44-B70D-8C4CC496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510-9CCD-488A-8F5C-3E54E740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A0E-B4E3-4C97-8DB3-7B00A7DB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839-8997-4F48-9EF1-9CCDA100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308-CFFE-41D1-843F-6197279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DFC-5AD1-4F8A-8510-4395284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51098-7886-4087-AA0D-D628DAE113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