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1212"/>
        <c:axId val="59221595"/>
      </c:barChart>
      <c:catAx>
        <c:axId val="1071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1595"/>
        <c:crosses val="autoZero"/>
        <c:auto val="1"/>
        <c:lblAlgn val="ctr"/>
        <c:lblOffset val="100"/>
        <c:noMultiLvlLbl val="0"/>
      </c:catAx>
      <c:valAx>
        <c:axId val="59221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1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677-D779-4AE7-86E8-B76EA06A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ECC-1253-4BB4-A20B-AB1DF2D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131-0C26-4594-8644-C22A837B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188-F846-4C30-B074-A811202B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880-22F0-4DCB-9D90-3A4B56D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AAC-169D-48B3-A724-DCD2910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36D-7AA3-4879-A9A3-C10AF0C3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636-DE9A-443D-9E54-AB9CBF0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B11-177B-4BC6-A32F-4A00268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2AD-8092-40E7-9822-8BBBBE5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896-0E6A-47D6-84D8-733BA6C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642-A2DA-408C-9ED7-5A8AFD7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116E5-577F-497B-A6F5-AA031C943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