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641739"/>
        <c:axId val="6969938"/>
      </c:barChart>
      <c:catAx>
        <c:axId val="586417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9938"/>
        <c:crosses val="autoZero"/>
        <c:auto val="1"/>
        <c:lblAlgn val="ctr"/>
        <c:lblOffset val="100"/>
        <c:noMultiLvlLbl val="0"/>
      </c:catAx>
      <c:valAx>
        <c:axId val="6969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417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DA9F-384A-48E1-A94C-FD34640F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8766-74A7-4B04-8A56-4E3BA162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DEFF-CFD8-4F65-B268-2983B87B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D3F-1B31-4B57-8861-86795D95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12A1-ABAF-4AD3-A581-7CB7BB42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622C-42F2-40C0-A5E6-E42D02F9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BF1-A07F-42A0-87FA-4725AF0B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992B-0123-4C81-9883-08B7D209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7EC-C756-4DA3-BBC6-AF9FBEAC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8951-5DE3-4A56-B7FD-A787293A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BE08-FDA9-4C45-A6B4-69642CBE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AF1-CA6A-402E-A420-03FEDB4B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638CA-12BC-4BE2-B6F8-9FAF166989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