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2683"/>
        <c:axId val="47586611"/>
      </c:barChart>
      <c:catAx>
        <c:axId val="3882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86611"/>
        <c:crosses val="autoZero"/>
        <c:auto val="1"/>
        <c:lblAlgn val="ctr"/>
        <c:lblOffset val="100"/>
        <c:noMultiLvlLbl val="0"/>
      </c:catAx>
      <c:valAx>
        <c:axId val="47586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2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26E-AE9A-41E9-B465-FEEB7FE6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78E-1071-44FB-BF01-1F8C2DD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5BA-E29F-463D-8695-D9E0B1BE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5D1-2706-4B76-99F0-A6C90928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3CA-8206-46BB-9E39-0B20831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528-F00B-4EA5-ADF1-518B41DB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171-9EC7-4B07-9BC7-B56200B4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6F7-BEDD-4E34-8E6D-EF503897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175-E2A8-4E9B-8326-A181D0B4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F89-83F0-4AC1-8387-404480F0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442-F3D5-4527-BFA8-D2F2FB5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047-C8F6-4AE9-9F92-4F9B5B63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C33F9-5BD9-42A0-B15D-C19F83BD9B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