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85589"/>
        <c:axId val="34160104"/>
      </c:barChart>
      <c:catAx>
        <c:axId val="57385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60104"/>
        <c:crosses val="autoZero"/>
        <c:auto val="1"/>
        <c:lblAlgn val="ctr"/>
        <c:lblOffset val="100"/>
        <c:noMultiLvlLbl val="0"/>
      </c:catAx>
      <c:valAx>
        <c:axId val="34160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85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452-2E96-4363-B6A5-316E6A87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E84-EF3E-4276-A1C0-9C862104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FB9-EEF2-416A-B697-A3C45FD9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CE7-5EAC-470F-B544-0849BE45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793-4B71-4149-A513-1F2D76F4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0A7-9D95-4F7E-AB63-24E53107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CB2-62BA-438E-8E0D-608DCEE4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791-2D30-4426-B423-664FC0F9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0AA-BA3D-44D1-8100-3C29C710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EE0-6B06-46F8-B5FA-8D6413BC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D91-FCD5-471E-8DC2-8EFA8BC0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1D1-49A1-44EF-B926-51D9B1CE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25AF2-B803-4393-9273-6CF0EEEA3F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