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51214"/>
        <c:axId val="87565438"/>
      </c:barChart>
      <c:catAx>
        <c:axId val="22151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5438"/>
        <c:crosses val="autoZero"/>
        <c:auto val="1"/>
        <c:lblAlgn val="ctr"/>
        <c:lblOffset val="100"/>
        <c:noMultiLvlLbl val="0"/>
      </c:catAx>
      <c:valAx>
        <c:axId val="87565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1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096-CE70-4BA7-95BB-B766F5FC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5CC-44A7-4CFC-A12F-1253379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F21-1016-463A-AF16-381F2249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F8E-32EA-4410-B50F-FE37CBCE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787-D4D6-49A2-8EE4-4EEBE5E9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586-F76D-4B32-B690-F1DC1345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BCC-3E53-46EA-9C08-D4AC51F3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E66-F363-4C4F-940F-257AFFF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58B-A860-49D6-AAD6-BE6557E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60B-99BD-4574-AE12-D27EA6E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3E3-F239-41DF-AED6-4983942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92C-DF3B-4BF6-8945-1D3CFE1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2D0F6-A702-4065-994A-D617F0C8B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