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68261"/>
        <c:axId val="90693490"/>
      </c:barChart>
      <c:catAx>
        <c:axId val="65568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93490"/>
        <c:crosses val="autoZero"/>
        <c:auto val="1"/>
        <c:lblAlgn val="ctr"/>
        <c:lblOffset val="100"/>
        <c:noMultiLvlLbl val="0"/>
      </c:catAx>
      <c:valAx>
        <c:axId val="90693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68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642-8909-4661-8D85-D6267B83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C3E-D49C-48A9-BEC0-AF615CEC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95F-1586-41EE-9050-7CCEBBCC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F38-E68C-4E96-A290-01241A55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0C1-7511-4109-A1A2-3DEC8B8A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057-89D9-43B4-A544-96EAA5AA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D2E-2425-4404-88FD-A1808217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A02-D21E-4775-8767-D1FE592D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BA4-A8EF-43E9-8295-C100AFA4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92D-4BFA-4B19-B2AC-7C496B67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79B-47FD-46CC-ACAB-09B9C976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BB5-BAF0-4CE6-9FAC-132A1C23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CDF34-E260-4A13-9604-E4E54D5433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