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18137"/>
        <c:axId val="9686018"/>
      </c:barChart>
      <c:catAx>
        <c:axId val="22018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6018"/>
        <c:crosses val="autoZero"/>
        <c:auto val="1"/>
        <c:lblAlgn val="ctr"/>
        <c:lblOffset val="100"/>
        <c:noMultiLvlLbl val="0"/>
      </c:catAx>
      <c:valAx>
        <c:axId val="9686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18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C7A-7322-4F88-A0A1-78209068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C0C-0F5A-4D25-A5AA-0F7B3F8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6E6-21F0-4A6C-B421-42DA88BC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4D8-2192-4240-94A7-E821300E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512-97DC-4FA3-88DC-3B4CD3C1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542-D4EB-4EEC-8A26-F695BAAA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7BB-8D28-450E-B0BF-709CACEA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71B-8C9B-443F-BB38-C055B4E3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05E-3265-471B-8FBB-664CEA49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736-02DA-408B-A531-BD58DB27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D6C-6EFC-41AF-A073-42B2279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F7E-889C-40E5-9D26-D1AD2BA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E343C-D99A-4CAE-B218-973FA77327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