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04034"/>
        <c:axId val="15486993"/>
      </c:barChart>
      <c:catAx>
        <c:axId val="47040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486993"/>
        <c:crosses val="autoZero"/>
        <c:auto val="1"/>
        <c:lblAlgn val="ctr"/>
        <c:lblOffset val="100"/>
        <c:noMultiLvlLbl val="0"/>
      </c:catAx>
      <c:valAx>
        <c:axId val="154869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040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177E-38A5-4A14-879A-596951C64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4B55-D889-448B-971A-8A05A4EB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FA32-8B9E-49CA-A027-FE4551718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B9EC-3CBD-49EC-9A4B-2D86DF42F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8C97-A5CE-47BA-8F25-E1D3FA2A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3FB2-462C-4867-A826-49BBE863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C3DD-C503-4280-999F-AB1FDDC6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5162-9528-4FA9-B361-3319F510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0F86-53DC-4318-81A1-9EE15411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104D-428E-470D-B842-41DCF72F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5201-DFAA-403D-A69D-8F3C1411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1218-CC59-4DFA-BB51-05B3E5E7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0EA630-EE33-4A21-9D1A-F208054095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