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80502"/>
        <c:axId val="18672456"/>
      </c:barChart>
      <c:catAx>
        <c:axId val="50280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72456"/>
        <c:crosses val="autoZero"/>
        <c:auto val="1"/>
        <c:lblAlgn val="ctr"/>
        <c:lblOffset val="100"/>
        <c:noMultiLvlLbl val="0"/>
      </c:catAx>
      <c:valAx>
        <c:axId val="18672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80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CEA-FF9B-4223-A329-2849E4F3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59B-5E21-4B23-B78B-C56613C5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DBA-EE3B-4518-AD1A-8776527A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542-4D2D-465F-AF65-1B110248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ADB-42B5-439A-8CE8-A39A62DF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E8E-CB5E-4D89-8B4F-0F809C3A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9B3-2C4C-447C-87F3-178052F2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F1D-E8B0-4B6E-AEAB-8555350F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441-8714-4680-9B62-1E052E40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569-8369-4D4D-9D63-D544670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1CA-410F-455A-85DA-EE39C1FF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C6F-7577-4DDA-A431-EE6945B5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B555D-EC26-45B3-B581-40DC98C5B7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