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67918"/>
        <c:axId val="79729045"/>
      </c:barChart>
      <c:catAx>
        <c:axId val="58867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29045"/>
        <c:crosses val="autoZero"/>
        <c:auto val="1"/>
        <c:lblAlgn val="ctr"/>
        <c:lblOffset val="100"/>
        <c:noMultiLvlLbl val="0"/>
      </c:catAx>
      <c:valAx>
        <c:axId val="79729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67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248-94C6-4201-BD90-34C7CED4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42B-DB45-4DB0-A88C-320E2CD5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A31-8358-4CB8-B451-E7FF4D30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620-BA89-435A-8051-3ED980FF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CEF-3C83-44E2-9007-A7D2F8C0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797-C2B8-42E1-8E4A-BA378855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221-90AA-4700-B0D3-F0A59F17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AC9-FF3B-495D-BBB6-30E5AF0B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72D-55A9-4E70-9314-927BFC7D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142-4F33-41A1-B368-019CA07E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067-B9FB-4DF2-9006-916D18ED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EDD-8855-4B1C-8730-D7978730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02D99-8A9F-46F8-AD07-60526BFFB1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